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CB2-7566-4D92-BC57-E186D90D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634-405A-4429-92A5-B01760BB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51D-387E-4436-B10B-2064F082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F52-5F18-4998-9799-85498EDA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57D5-3CAE-45D3-9A8D-129A6F88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3F99-D146-4038-A133-C0011984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CC01-4B5E-44FA-BD64-74B3CCE0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9754-6FFC-4689-AB7E-D96449F8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7C63-DC07-4E06-A380-00DB16E2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3548-1237-4A32-8E9E-A735EDA0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3C47-23E2-49AF-8DDC-C047EDA0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D78-B07F-4DDA-A312-2B4AFD0C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BBA6-4442-4DB3-B531-672B06D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D4BD-0FCF-46FC-AE9A-FF8589FC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FB19-A7D4-49C1-9B26-9ED5904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F980-3B6E-4465-A3E5-FD8B805A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9147-B7D5-48AA-AE42-75ED139B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ED8-4688-4C53-B993-76F04FB3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6E5-FE20-4A3C-92F2-E4FA4151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F4C-D074-472A-B024-EDEF808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85A-41D4-4242-9981-3110442C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95E-0B61-45A4-B15E-10BAA04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C0D-366D-432E-8411-C4C24D4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FC5-45B2-4BD4-A39B-8707C19B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EC74-C143-4008-B255-F607C3B7165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C915-2F70-449B-B928-D8DA8708808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Единый государственный экзамен как форма оценки образовательных достижений учащихся по экологи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Ловкова Т. А.доцент кафедры естественно-математического и географического образования ВИПКРО, канд. биол. наук. Заслуженный учитель РФ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Единый государственный экзамен выступает как способ достижения  единых требований  в области образования, создания объективной стандартизованной оценки достижения выпускников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линова Г. 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держательные линии ЕГЭ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иология – наука живой природе. Вклад ученых в ее разви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летка как биологическая сист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ганизм как биологическая сит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ногообразие организм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 его здоровь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дорганизменные системы. Эволюция органического ми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осистемы и присущие им  закономер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полнение заданий части 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 волна 56,8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волна 54,7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140360" y="2421000"/>
          <a:ext cx="4392360" cy="209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421000"/>
                    <a:ext cx="439236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826920" y="4581360"/>
          <a:ext cx="4392720" cy="20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581360"/>
                    <a:ext cx="439272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полнение заданий части 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87828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становление последовательности экологических закономерностей биологических объек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4508640"/>
          <a:ext cx="4248000" cy="202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508640"/>
                    <a:ext cx="42480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00720" y="2421000"/>
          <a:ext cx="424800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421000"/>
                    <a:ext cx="42480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поставление результатов выполнения заданий части А разных содержательных лин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2276640"/>
          <a:ext cx="748836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76640"/>
                    <a:ext cx="74883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979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ыво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Результаты единого государственного экзамена показали недостаточную подготовку учащихся по эколог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57,4% выпускников и абитуриентов усвоили  базовый, 32.9% - повышенный и  9,7% - высокий  уровень  содержания курса биолог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На этапе итоговой  аттестации и вступительных испытаний наибольшие трудности у учащихся возникли при выполнении  всех заданий части С: свободном ответе на поставленный вопрос; обозначении частей биологического объекта с указанием их функций, выборе и обосновании правильных предложений  из предложенного текста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 Формой подготовки к ЕГЭ должен быть не только урок, но и экскурсии, факультативы, элективные курс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за внимание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14:05Z</dcterms:created>
  <dc:creator>Lanser Client</dc:creator>
  <dc:description/>
  <dc:language>en-US</dc:language>
  <cp:lastModifiedBy>Lanser Client</cp:lastModifiedBy>
  <dcterms:modified xsi:type="dcterms:W3CDTF">2007-12-19T19:45:51Z</dcterms:modified>
  <cp:revision>13</cp:revision>
  <dc:subject/>
  <dc:title>Единый гсударственный экзамен как форма оценки образовательных достижений учащихся</dc:title>
</cp:coreProperties>
</file>